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gif" ContentType="image/gif"/>
  <Override PartName="/ppt/media/image6.wmf" ContentType="image/x-wmf"/>
  <Override PartName="/ppt/media/image7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02BA-9147-421D-9F1A-44972B974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of meiosis to use as 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Animation from http://biology.clc.uc.edu/courses/bio104/meio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re animated so you can ask each question and get an answer before going to the next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re animated so you can ask each question and get an answer before going to the next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ation of a new individual through the union of parent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umber of chromosomes are animated so you can ask students the answers before it comes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nimation is a review of mitosis.  Have students review what is happening to the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from http://www.sci.sdsu.edu/multimedia/mitosis/mitosis_gif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re animated so you can ask each question and get an answer before going to the next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re animated so you can ask each question and get an answer before going to the next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E60-43F7-4935-AC1F-E53EE397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DAD-EE6F-454D-B168-95F765DD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83F-C316-4725-8246-55A626D2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35C-FE12-4543-8589-7FA4FA51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CE65-45A5-48CA-BA66-10939444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B749-9E4A-4FD3-86E3-A477865B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4C8F-5EA4-466D-92BC-9CB6870A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637C-A971-458C-80E4-9E25F377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4E6F-C3F0-4AD4-9B8B-7CF4EE87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AD26-81E3-4316-9F12-1C632C66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551B-9772-4996-ACA7-9C3976FB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0A8-937A-4935-8C01-908B12B0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0AF8-C631-4B0F-9871-EEB6BAAA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01DC-3617-4570-95C9-26E605E8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1063-8E79-4C84-B5A7-18CDEA68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1FA3-4CAD-444A-9939-055192B4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E945-A07F-49E3-A7C6-FEDBF94F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4EC3-C2F8-4758-B7E0-FFFEA6EF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36B6-1F45-41F5-BE9F-6DC14B0C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162-2016-4EC9-B371-FB3AB749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D0F9-98B0-44D3-BB5B-3A36156D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FFCF-0CF3-4891-B338-7B72E2EC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FDD2-4811-4807-8C7F-0FD43216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3517-464A-401E-A398-4720FABC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3FF9-B34A-4B68-BFD8-CC9CA4A82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E05F-7534-47F3-B192-2F26404F3A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676520" y="2514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Cell Reproducti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ff"/>
                </a:solidFill>
                <a:latin typeface="Times New Roman"/>
              </a:rPr>
              <a:t>Even More Mitosis Review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27320" y="5029200"/>
            <a:ext cx="7816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7. Are the resulting daughter cells different from the parent cell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371600" y="3429000"/>
            <a:ext cx="7772400" cy="1321560"/>
            <a:chOff x="1371600" y="3429000"/>
            <a:chExt cx="7772400" cy="1321560"/>
          </a:xfrm>
        </p:grpSpPr>
        <p:sp>
          <p:nvSpPr>
            <p:cNvPr id="214" name=""/>
            <p:cNvSpPr/>
            <p:nvPr/>
          </p:nvSpPr>
          <p:spPr>
            <a:xfrm>
              <a:off x="1371600" y="3429000"/>
              <a:ext cx="777240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6. How many daughter cells ar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05120" y="4108320"/>
              <a:ext cx="54100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produced?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295280" y="1828800"/>
            <a:ext cx="6629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5. What types of cells are </a:t>
            </a:r>
            <a:br>
              <a:rPr sz="4000"/>
            </a:b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     produced by mitosi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ff"/>
                </a:solidFill>
                <a:latin typeface="Times New Roman"/>
              </a:rPr>
              <a:t>Cancer</a:t>
            </a:r>
            <a:endParaRPr b="0" lang="en-US" sz="5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. develops when mutations occur in   genes that control cell division (mitosi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 the mutations cause the cell to divide uncontrollab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ff"/>
                </a:solidFill>
                <a:latin typeface="Times New Roman"/>
              </a:rPr>
              <a:t>Cancer (continued)</a:t>
            </a:r>
            <a:endParaRPr b="0" lang="en-US" sz="5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. Benign tumors have not spread to other tissues; malignant tumors have spread to other tissu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0"/>
            <a:ext cx="3048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Meiosis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14479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.  sexual (two parent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143000" y="2971800"/>
            <a:ext cx="8001000" cy="2989440"/>
            <a:chOff x="1143000" y="2971800"/>
            <a:chExt cx="8001000" cy="2989440"/>
          </a:xfrm>
        </p:grpSpPr>
        <p:sp>
          <p:nvSpPr>
            <p:cNvPr id="224" name=""/>
            <p:cNvSpPr/>
            <p:nvPr/>
          </p:nvSpPr>
          <p:spPr>
            <a:xfrm>
              <a:off x="1143000" y="2971800"/>
              <a:ext cx="80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2.  Formation of gametes with </a:t>
              </a:r>
              <a:r>
                <a:rPr b="0" lang="en-US" sz="4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half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52480" y="5257800"/>
              <a:ext cx="586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number of chromosom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52480" y="4572000"/>
              <a:ext cx="632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their offspring has the correc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52480" y="3733560"/>
              <a:ext cx="678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the number of chromosomes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 so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1066680" y="685800"/>
            <a:ext cx="7772400" cy="1617840"/>
            <a:chOff x="1066680" y="685800"/>
            <a:chExt cx="7772400" cy="1617840"/>
          </a:xfrm>
        </p:grpSpPr>
        <p:sp>
          <p:nvSpPr>
            <p:cNvPr id="229" name=""/>
            <p:cNvSpPr/>
            <p:nvPr/>
          </p:nvSpPr>
          <p:spPr>
            <a:xfrm>
              <a:off x="1066680" y="685800"/>
              <a:ext cx="777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3.  During meiosis, 4 sperm cells ar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28800" y="1600200"/>
              <a:ext cx="594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made; one egg cell is mad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143000" y="3124080"/>
            <a:ext cx="8001000" cy="1541520"/>
            <a:chOff x="1143000" y="3124080"/>
            <a:chExt cx="8001000" cy="1541520"/>
          </a:xfrm>
        </p:grpSpPr>
        <p:sp>
          <p:nvSpPr>
            <p:cNvPr id="232" name=""/>
            <p:cNvSpPr/>
            <p:nvPr/>
          </p:nvSpPr>
          <p:spPr>
            <a:xfrm>
              <a:off x="1143000" y="3124080"/>
              <a:ext cx="80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4.  During meiosis, cells start ou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28800" y="3962160"/>
              <a:ext cx="655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diploid, then reduce to haploid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meiosis_ani" descr=""/>
          <p:cNvPicPr/>
          <p:nvPr/>
        </p:nvPicPr>
        <p:blipFill>
          <a:blip r:embed="rId1"/>
          <a:stretch/>
        </p:blipFill>
        <p:spPr>
          <a:xfrm>
            <a:off x="2816280" y="1776240"/>
            <a:ext cx="4406760" cy="44071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79680" y="36792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eiosis Anim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ff"/>
                </a:solidFill>
                <a:latin typeface="Times New Roman"/>
              </a:rPr>
              <a:t>Meiosis Review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79600" y="1790640"/>
            <a:ext cx="71280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1.  Is the beginning parent cell diploid or haploid (2n or n)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600200" y="5094360"/>
            <a:ext cx="6172200" cy="1560600"/>
            <a:chOff x="1600200" y="5094360"/>
            <a:chExt cx="6172200" cy="1560600"/>
          </a:xfrm>
        </p:grpSpPr>
        <p:graphicFrame>
          <p:nvGraphicFramePr>
            <p:cNvPr id="239" name=""/>
            <p:cNvGraphicFramePr/>
            <p:nvPr/>
          </p:nvGraphicFramePr>
          <p:xfrm>
            <a:off x="5334120" y="5105520"/>
            <a:ext cx="2438280" cy="1333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5105520"/>
                      <a:ext cx="2438280" cy="13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"/>
            <p:cNvGraphicFramePr/>
            <p:nvPr/>
          </p:nvGraphicFramePr>
          <p:xfrm>
            <a:off x="1600200" y="5094360"/>
            <a:ext cx="2514600" cy="156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00200" y="5094360"/>
                      <a:ext cx="2514600" cy="15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3" name=""/>
          <p:cNvGrpSpPr/>
          <p:nvPr/>
        </p:nvGrpSpPr>
        <p:grpSpPr>
          <a:xfrm>
            <a:off x="1523880" y="3505320"/>
            <a:ext cx="7010640" cy="1389240"/>
            <a:chOff x="1523880" y="3505320"/>
            <a:chExt cx="7010640" cy="1389240"/>
          </a:xfrm>
        </p:grpSpPr>
        <p:sp>
          <p:nvSpPr>
            <p:cNvPr id="244" name=""/>
            <p:cNvSpPr/>
            <p:nvPr/>
          </p:nvSpPr>
          <p:spPr>
            <a:xfrm>
              <a:off x="1523880" y="3505320"/>
              <a:ext cx="7010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2.  How many chromosomes ar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9680" y="4191120"/>
              <a:ext cx="586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in a human parent cell?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ff"/>
                </a:solidFill>
                <a:latin typeface="Times New Roman"/>
              </a:rPr>
              <a:t>More Meiosis Review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79240" y="1790640"/>
            <a:ext cx="751212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.  Are the resulting daughter cells diploid or haploid (2n or n)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676520" y="4876920"/>
            <a:ext cx="6858000" cy="1795320"/>
            <a:chOff x="1676520" y="4876920"/>
            <a:chExt cx="6858000" cy="1795320"/>
          </a:xfrm>
        </p:grpSpPr>
        <p:graphicFrame>
          <p:nvGraphicFramePr>
            <p:cNvPr id="249" name=""/>
            <p:cNvGraphicFramePr/>
            <p:nvPr/>
          </p:nvGraphicFramePr>
          <p:xfrm>
            <a:off x="5791320" y="5105520"/>
            <a:ext cx="2743200" cy="150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91320" y="5105520"/>
                      <a:ext cx="2743200" cy="15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1" name=""/>
            <p:cNvGraphicFramePr/>
            <p:nvPr/>
          </p:nvGraphicFramePr>
          <p:xfrm>
            <a:off x="1676520" y="4876920"/>
            <a:ext cx="2895480" cy="1795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876920"/>
                      <a:ext cx="2895480" cy="17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3" name=""/>
          <p:cNvGrpSpPr/>
          <p:nvPr/>
        </p:nvGrpSpPr>
        <p:grpSpPr>
          <a:xfrm>
            <a:off x="1447920" y="3352680"/>
            <a:ext cx="7010280" cy="1389240"/>
            <a:chOff x="1447920" y="3352680"/>
            <a:chExt cx="7010280" cy="1389240"/>
          </a:xfrm>
        </p:grpSpPr>
        <p:sp>
          <p:nvSpPr>
            <p:cNvPr id="254" name=""/>
            <p:cNvSpPr/>
            <p:nvPr/>
          </p:nvSpPr>
          <p:spPr>
            <a:xfrm>
              <a:off x="1447920" y="3352680"/>
              <a:ext cx="70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4.  How many chromosomes ar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133720" y="4038480"/>
              <a:ext cx="594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in a human daughter cell?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ff"/>
                </a:solidFill>
                <a:latin typeface="Times New Roman"/>
              </a:rPr>
              <a:t>Even More Meiosis Review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27320" y="5029200"/>
            <a:ext cx="7816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7. Are the resulting daughter cells different from the parent cell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71600" y="3429000"/>
            <a:ext cx="7772400" cy="1321560"/>
            <a:chOff x="1371600" y="3429000"/>
            <a:chExt cx="7772400" cy="1321560"/>
          </a:xfrm>
        </p:grpSpPr>
        <p:sp>
          <p:nvSpPr>
            <p:cNvPr id="259" name=""/>
            <p:cNvSpPr/>
            <p:nvPr/>
          </p:nvSpPr>
          <p:spPr>
            <a:xfrm>
              <a:off x="1371600" y="3429000"/>
              <a:ext cx="777240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6. How many daughter cells ar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05120" y="4108320"/>
              <a:ext cx="54100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produced?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295280" y="1828800"/>
            <a:ext cx="6629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5. What types of cells are </a:t>
            </a:r>
            <a:br>
              <a:rPr sz="4000"/>
            </a:b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    produced by meiosi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ff"/>
                </a:solidFill>
                <a:latin typeface="Times New Roman"/>
              </a:rPr>
              <a:t>Fertilization - </a:t>
            </a:r>
            <a:endParaRPr b="0" lang="en-US" sz="5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joining of an egg cell &amp; sperm cell to create a zygo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B03709" descr=""/>
          <p:cNvPicPr/>
          <p:nvPr/>
        </p:nvPicPr>
        <p:blipFill>
          <a:blip r:embed="rId1"/>
          <a:stretch/>
        </p:blipFill>
        <p:spPr>
          <a:xfrm>
            <a:off x="1828800" y="3505320"/>
            <a:ext cx="63244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3880" y="2286000"/>
            <a:ext cx="67057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.  gametes (egg &amp; sperm)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23880" y="3276720"/>
            <a:ext cx="5943600" cy="1465200"/>
            <a:chOff x="1523880" y="3276720"/>
            <a:chExt cx="5943600" cy="1465200"/>
          </a:xfrm>
        </p:grpSpPr>
        <p:sp>
          <p:nvSpPr>
            <p:cNvPr id="156" name=""/>
            <p:cNvSpPr/>
            <p:nvPr/>
          </p:nvSpPr>
          <p:spPr>
            <a:xfrm>
              <a:off x="1523880" y="3276720"/>
              <a:ext cx="59436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2.  human gametes have</a:t>
              </a:r>
              <a:r>
                <a:rPr b="0" lang="en-US" sz="45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endParaRPr b="0" lang="en-US" sz="4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09680" y="4038480"/>
              <a:ext cx="510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23 chromosom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676520" y="609480"/>
            <a:ext cx="6629400" cy="1465560"/>
            <a:chOff x="1676520" y="609480"/>
            <a:chExt cx="6629400" cy="1465560"/>
          </a:xfrm>
        </p:grpSpPr>
        <p:sp>
          <p:nvSpPr>
            <p:cNvPr id="159" name=""/>
            <p:cNvSpPr/>
            <p:nvPr/>
          </p:nvSpPr>
          <p:spPr>
            <a:xfrm>
              <a:off x="1676520" y="609480"/>
              <a:ext cx="66294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ffff"/>
                  </a:solidFill>
                  <a:latin typeface="Times New Roman"/>
                </a:rPr>
                <a:t>Haploid</a:t>
              </a:r>
              <a:r>
                <a:rPr b="0" lang="en-US" sz="45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a cell with on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28800" y="1371600"/>
              <a:ext cx="525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set of chromosom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61" name=""/>
          <p:cNvGraphicFramePr/>
          <p:nvPr/>
        </p:nvGraphicFramePr>
        <p:xfrm>
          <a:off x="5410080" y="4724280"/>
          <a:ext cx="3124440" cy="17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4724280"/>
                    <a:ext cx="312444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ff"/>
                </a:solidFill>
                <a:latin typeface="Times New Roman"/>
              </a:rPr>
              <a:t>Fertilization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66" name="SO00513_" descr=""/>
          <p:cNvPicPr/>
          <p:nvPr/>
        </p:nvPicPr>
        <p:blipFill>
          <a:blip r:embed="rId1"/>
          <a:stretch/>
        </p:blipFill>
        <p:spPr>
          <a:xfrm>
            <a:off x="1554120" y="4586400"/>
            <a:ext cx="2544840" cy="20034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4165560" y="4365720"/>
            <a:ext cx="4062600" cy="1039680"/>
            <a:chOff x="4165560" y="4365720"/>
            <a:chExt cx="4062600" cy="1039680"/>
          </a:xfrm>
        </p:grpSpPr>
        <p:grpSp>
          <p:nvGrpSpPr>
            <p:cNvPr id="268" name=""/>
            <p:cNvGrpSpPr/>
            <p:nvPr/>
          </p:nvGrpSpPr>
          <p:grpSpPr>
            <a:xfrm>
              <a:off x="4165560" y="4365720"/>
              <a:ext cx="4062600" cy="1039680"/>
              <a:chOff x="4165560" y="4365720"/>
              <a:chExt cx="4062600" cy="1039680"/>
            </a:xfrm>
          </p:grpSpPr>
          <p:sp>
            <p:nvSpPr>
              <p:cNvPr id="269" name=""/>
              <p:cNvSpPr/>
              <p:nvPr/>
            </p:nvSpPr>
            <p:spPr>
              <a:xfrm>
                <a:off x="5516640" y="4657680"/>
                <a:ext cx="2711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Zygote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165560" y="4365720"/>
                <a:ext cx="1184400" cy="1039680"/>
              </a:xfrm>
              <a:prstGeom prst="ellipse">
                <a:avLst/>
              </a:prstGeom>
              <a:solidFill>
                <a:srgbClr val="00cc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4430880" y="4626000"/>
              <a:ext cx="60948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46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5231880" y="3495600"/>
            <a:ext cx="714600" cy="747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748480" y="1917720"/>
            <a:ext cx="1447560" cy="1506600"/>
            <a:chOff x="5748480" y="1917720"/>
            <a:chExt cx="1447560" cy="1506600"/>
          </a:xfrm>
        </p:grpSpPr>
        <p:sp>
          <p:nvSpPr>
            <p:cNvPr id="274" name=""/>
            <p:cNvSpPr/>
            <p:nvPr/>
          </p:nvSpPr>
          <p:spPr>
            <a:xfrm>
              <a:off x="5748480" y="1917720"/>
              <a:ext cx="1447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Mom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80240" y="2585880"/>
              <a:ext cx="828360" cy="838440"/>
            </a:xfrm>
            <a:prstGeom prst="ellipse">
              <a:avLst/>
            </a:prstGeom>
            <a:solidFill>
              <a:srgbClr val="00cc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87880" y="2744640"/>
              <a:ext cx="6462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  <a:ea typeface="Arial"/>
                </a:rPr>
                <a:t>23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268800" y="3462480"/>
            <a:ext cx="779400" cy="64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090880" y="2011320"/>
            <a:ext cx="1752480" cy="1938240"/>
            <a:chOff x="2090880" y="2011320"/>
            <a:chExt cx="1752480" cy="1938240"/>
          </a:xfrm>
        </p:grpSpPr>
        <p:grpSp>
          <p:nvGrpSpPr>
            <p:cNvPr id="279" name=""/>
            <p:cNvGrpSpPr/>
            <p:nvPr/>
          </p:nvGrpSpPr>
          <p:grpSpPr>
            <a:xfrm>
              <a:off x="2090880" y="2011320"/>
              <a:ext cx="1752480" cy="1938240"/>
              <a:chOff x="2090880" y="2011320"/>
              <a:chExt cx="1752480" cy="1938240"/>
            </a:xfrm>
          </p:grpSpPr>
          <p:sp>
            <p:nvSpPr>
              <p:cNvPr id="280" name=""/>
              <p:cNvSpPr/>
              <p:nvPr/>
            </p:nvSpPr>
            <p:spPr>
              <a:xfrm>
                <a:off x="2090880" y="2011320"/>
                <a:ext cx="1752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Dad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2647800" y="2646360"/>
                <a:ext cx="598680" cy="1303200"/>
                <a:chOff x="2647800" y="2646360"/>
                <a:chExt cx="598680" cy="130320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647800" y="2646360"/>
                  <a:ext cx="598680" cy="617400"/>
                </a:xfrm>
                <a:prstGeom prst="ellipse">
                  <a:avLst/>
                </a:prstGeom>
                <a:solidFill>
                  <a:srgbClr val="00ccc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689200" y="3263760"/>
                  <a:ext cx="406440" cy="685800"/>
                </a:xfrm>
                <a:custGeom>
                  <a:avLst/>
                  <a:gdLst/>
                  <a:ahLst/>
                  <a:rect l="l" t="t" r="r" b="b"/>
                  <a:pathLst>
                    <a:path w="256" h="432">
                      <a:moveTo>
                        <a:pt x="160" y="0"/>
                      </a:moveTo>
                      <a:cubicBezTo>
                        <a:pt x="80" y="56"/>
                        <a:pt x="0" y="112"/>
                        <a:pt x="16" y="144"/>
                      </a:cubicBezTo>
                      <a:cubicBezTo>
                        <a:pt x="32" y="176"/>
                        <a:pt x="256" y="160"/>
                        <a:pt x="256" y="192"/>
                      </a:cubicBezTo>
                      <a:cubicBezTo>
                        <a:pt x="256" y="224"/>
                        <a:pt x="16" y="296"/>
                        <a:pt x="16" y="336"/>
                      </a:cubicBezTo>
                      <a:cubicBezTo>
                        <a:pt x="16" y="376"/>
                        <a:pt x="136" y="404"/>
                        <a:pt x="256" y="432"/>
                      </a:cubicBezTo>
                    </a:path>
                  </a:pathLst>
                </a:custGeom>
                <a:noFill/>
                <a:ln w="38160">
                  <a:solidFill>
                    <a:srgbClr val="00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4" name=""/>
            <p:cNvSpPr/>
            <p:nvPr/>
          </p:nvSpPr>
          <p:spPr>
            <a:xfrm>
              <a:off x="2708280" y="2762280"/>
              <a:ext cx="5554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  <a:ea typeface="Arial"/>
                </a:rPr>
                <a:t>23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ff"/>
                </a:solidFill>
                <a:latin typeface="Times New Roman"/>
              </a:rPr>
              <a:t>Fertilization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43000" y="251460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Female is designated by X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Male is designated by X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ff"/>
                </a:solidFill>
                <a:latin typeface="Times New Roman"/>
              </a:rPr>
              <a:t>Twins</a:t>
            </a:r>
            <a:endParaRPr b="0" lang="en-US" sz="5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dentical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– one egg is fertilized by one sperm and the zygote splits resulting in two identical zygo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447920" y="4495680"/>
            <a:ext cx="4114800" cy="1828800"/>
            <a:chOff x="1447920" y="4495680"/>
            <a:chExt cx="4114800" cy="1828800"/>
          </a:xfrm>
        </p:grpSpPr>
        <p:sp>
          <p:nvSpPr>
            <p:cNvPr id="290" name=""/>
            <p:cNvSpPr/>
            <p:nvPr/>
          </p:nvSpPr>
          <p:spPr>
            <a:xfrm>
              <a:off x="1447920" y="4495680"/>
              <a:ext cx="685800" cy="60984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23880" y="5410080"/>
              <a:ext cx="533520" cy="4572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00200" y="5867280"/>
              <a:ext cx="228600" cy="457200"/>
            </a:xfrm>
            <a:custGeom>
              <a:avLst/>
              <a:gdLst/>
              <a:ahLst/>
              <a:rect l="l" t="t" r="r" b="b"/>
              <a:pathLst>
                <a:path w="144" h="288">
                  <a:moveTo>
                    <a:pt x="144" y="0"/>
                  </a:moveTo>
                  <a:cubicBezTo>
                    <a:pt x="72" y="32"/>
                    <a:pt x="0" y="64"/>
                    <a:pt x="0" y="96"/>
                  </a:cubicBezTo>
                  <a:cubicBezTo>
                    <a:pt x="0" y="128"/>
                    <a:pt x="144" y="160"/>
                    <a:pt x="144" y="192"/>
                  </a:cubicBezTo>
                  <a:cubicBezTo>
                    <a:pt x="144" y="224"/>
                    <a:pt x="72" y="256"/>
                    <a:pt x="0" y="28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86000" y="4800600"/>
              <a:ext cx="11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2209680" y="5105160"/>
              <a:ext cx="121932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29000" y="5105520"/>
              <a:ext cx="838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19720" y="4648320"/>
              <a:ext cx="1143000" cy="9144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863960" y="4648320"/>
            <a:ext cx="343080" cy="838080"/>
          </a:xfrm>
          <a:custGeom>
            <a:avLst/>
            <a:gdLst/>
            <a:ahLst/>
            <a:rect l="l" t="t" r="r" b="b"/>
            <a:pathLst>
              <a:path w="216" h="528">
                <a:moveTo>
                  <a:pt x="104" y="0"/>
                </a:moveTo>
                <a:cubicBezTo>
                  <a:pt x="160" y="76"/>
                  <a:pt x="216" y="152"/>
                  <a:pt x="200" y="192"/>
                </a:cubicBezTo>
                <a:cubicBezTo>
                  <a:pt x="184" y="232"/>
                  <a:pt x="16" y="208"/>
                  <a:pt x="8" y="240"/>
                </a:cubicBezTo>
                <a:cubicBezTo>
                  <a:pt x="0" y="272"/>
                  <a:pt x="152" y="344"/>
                  <a:pt x="152" y="384"/>
                </a:cubicBezTo>
                <a:cubicBezTo>
                  <a:pt x="152" y="424"/>
                  <a:pt x="8" y="456"/>
                  <a:pt x="8" y="480"/>
                </a:cubicBezTo>
                <a:cubicBezTo>
                  <a:pt x="8" y="504"/>
                  <a:pt x="80" y="516"/>
                  <a:pt x="152" y="52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715000" y="4343400"/>
            <a:ext cx="1905120" cy="1447920"/>
            <a:chOff x="5715000" y="4343400"/>
            <a:chExt cx="1905120" cy="1447920"/>
          </a:xfrm>
        </p:grpSpPr>
        <p:sp>
          <p:nvSpPr>
            <p:cNvPr id="299" name=""/>
            <p:cNvSpPr/>
            <p:nvPr/>
          </p:nvSpPr>
          <p:spPr>
            <a:xfrm flipV="1">
              <a:off x="5715000" y="4723920"/>
              <a:ext cx="1143000" cy="30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15000" y="5181480"/>
              <a:ext cx="1143000" cy="152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10280" y="4343400"/>
              <a:ext cx="609840" cy="60948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10280" y="5181480"/>
              <a:ext cx="609840" cy="60984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ff"/>
                </a:solidFill>
                <a:latin typeface="Times New Roman"/>
              </a:rPr>
              <a:t>Twins</a:t>
            </a:r>
            <a:endParaRPr b="0" lang="en-US" sz="5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join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 one egg is fertilized by one sperm and the zygote incompletely spli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447920" y="4495680"/>
            <a:ext cx="4114800" cy="1828800"/>
            <a:chOff x="1447920" y="4495680"/>
            <a:chExt cx="4114800" cy="1828800"/>
          </a:xfrm>
        </p:grpSpPr>
        <p:sp>
          <p:nvSpPr>
            <p:cNvPr id="306" name=""/>
            <p:cNvSpPr/>
            <p:nvPr/>
          </p:nvSpPr>
          <p:spPr>
            <a:xfrm>
              <a:off x="1447920" y="4495680"/>
              <a:ext cx="685800" cy="60984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23880" y="5410080"/>
              <a:ext cx="533520" cy="4572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0200" y="5867280"/>
              <a:ext cx="228600" cy="457200"/>
            </a:xfrm>
            <a:custGeom>
              <a:avLst/>
              <a:gdLst/>
              <a:ahLst/>
              <a:rect l="l" t="t" r="r" b="b"/>
              <a:pathLst>
                <a:path w="144" h="288">
                  <a:moveTo>
                    <a:pt x="144" y="0"/>
                  </a:moveTo>
                  <a:cubicBezTo>
                    <a:pt x="72" y="32"/>
                    <a:pt x="0" y="64"/>
                    <a:pt x="0" y="96"/>
                  </a:cubicBezTo>
                  <a:cubicBezTo>
                    <a:pt x="0" y="128"/>
                    <a:pt x="144" y="160"/>
                    <a:pt x="144" y="192"/>
                  </a:cubicBezTo>
                  <a:cubicBezTo>
                    <a:pt x="144" y="224"/>
                    <a:pt x="72" y="256"/>
                    <a:pt x="0" y="28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86000" y="4800600"/>
              <a:ext cx="11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209680" y="5105160"/>
              <a:ext cx="121932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429000" y="5105520"/>
              <a:ext cx="838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19720" y="4648320"/>
              <a:ext cx="1143000" cy="9144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851360" y="4648320"/>
            <a:ext cx="406440" cy="838080"/>
          </a:xfrm>
          <a:custGeom>
            <a:avLst/>
            <a:gdLst/>
            <a:ahLst/>
            <a:rect l="l" t="t" r="r" b="b"/>
            <a:pathLst>
              <a:path w="256" h="528">
                <a:moveTo>
                  <a:pt x="64" y="0"/>
                </a:moveTo>
                <a:cubicBezTo>
                  <a:pt x="116" y="76"/>
                  <a:pt x="168" y="152"/>
                  <a:pt x="160" y="192"/>
                </a:cubicBezTo>
                <a:cubicBezTo>
                  <a:pt x="152" y="232"/>
                  <a:pt x="0" y="216"/>
                  <a:pt x="16" y="240"/>
                </a:cubicBezTo>
                <a:cubicBezTo>
                  <a:pt x="32" y="264"/>
                  <a:pt x="256" y="312"/>
                  <a:pt x="256" y="336"/>
                </a:cubicBezTo>
                <a:cubicBezTo>
                  <a:pt x="256" y="360"/>
                  <a:pt x="24" y="352"/>
                  <a:pt x="16" y="384"/>
                </a:cubicBezTo>
                <a:cubicBezTo>
                  <a:pt x="8" y="416"/>
                  <a:pt x="108" y="472"/>
                  <a:pt x="208" y="52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715000" y="4648320"/>
            <a:ext cx="2286000" cy="838080"/>
            <a:chOff x="5715000" y="4648320"/>
            <a:chExt cx="2286000" cy="838080"/>
          </a:xfrm>
        </p:grpSpPr>
        <p:grpSp>
          <p:nvGrpSpPr>
            <p:cNvPr id="315" name=""/>
            <p:cNvGrpSpPr/>
            <p:nvPr/>
          </p:nvGrpSpPr>
          <p:grpSpPr>
            <a:xfrm>
              <a:off x="6400800" y="4648320"/>
              <a:ext cx="1600200" cy="838080"/>
              <a:chOff x="6400800" y="4648320"/>
              <a:chExt cx="1600200" cy="838080"/>
            </a:xfrm>
          </p:grpSpPr>
          <p:sp>
            <p:nvSpPr>
              <p:cNvPr id="316" name=""/>
              <p:cNvSpPr/>
              <p:nvPr/>
            </p:nvSpPr>
            <p:spPr>
              <a:xfrm>
                <a:off x="6400800" y="4648320"/>
                <a:ext cx="838440" cy="838080"/>
              </a:xfrm>
              <a:prstGeom prst="ellipse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162920" y="4648320"/>
                <a:ext cx="838080" cy="838080"/>
              </a:xfrm>
              <a:prstGeom prst="ellipse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5715000" y="5105520"/>
              <a:ext cx="609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523880" y="533520"/>
            <a:ext cx="6774120" cy="5316480"/>
            <a:chOff x="1523880" y="533520"/>
            <a:chExt cx="6774120" cy="5316480"/>
          </a:xfrm>
        </p:grpSpPr>
        <p:grpSp>
          <p:nvGrpSpPr>
            <p:cNvPr id="320" name=""/>
            <p:cNvGrpSpPr/>
            <p:nvPr/>
          </p:nvGrpSpPr>
          <p:grpSpPr>
            <a:xfrm>
              <a:off x="1523880" y="533520"/>
              <a:ext cx="3597480" cy="5316480"/>
              <a:chOff x="1523880" y="533520"/>
              <a:chExt cx="3597480" cy="5316480"/>
            </a:xfrm>
          </p:grpSpPr>
          <p:pic>
            <p:nvPicPr>
              <p:cNvPr id="321" name="Italiantwins" descr=""/>
              <p:cNvPicPr/>
              <p:nvPr/>
            </p:nvPicPr>
            <p:blipFill>
              <a:blip r:embed="rId1"/>
              <a:stretch/>
            </p:blipFill>
            <p:spPr>
              <a:xfrm>
                <a:off x="1981080" y="533520"/>
                <a:ext cx="2741760" cy="440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2" name="Baratwins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3880" y="3657600"/>
                <a:ext cx="3597480" cy="2192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23" name="Russiantwins" descr=""/>
            <p:cNvPicPr/>
            <p:nvPr/>
          </p:nvPicPr>
          <p:blipFill>
            <a:blip r:embed="rId3"/>
            <a:stretch/>
          </p:blipFill>
          <p:spPr>
            <a:xfrm>
              <a:off x="5257800" y="990720"/>
              <a:ext cx="3040200" cy="4636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ff"/>
                </a:solidFill>
                <a:latin typeface="Times New Roman"/>
              </a:rPr>
              <a:t>Twins</a:t>
            </a:r>
            <a:endParaRPr b="0" lang="en-US" sz="5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aternal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– two different eggs are fertilized by two different sperm; no more genetically similar than brothers or sisters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3880" y="3733920"/>
            <a:ext cx="5562720" cy="2819160"/>
            <a:chOff x="1523880" y="3733920"/>
            <a:chExt cx="5562720" cy="2819160"/>
          </a:xfrm>
        </p:grpSpPr>
        <p:grpSp>
          <p:nvGrpSpPr>
            <p:cNvPr id="327" name=""/>
            <p:cNvGrpSpPr/>
            <p:nvPr/>
          </p:nvGrpSpPr>
          <p:grpSpPr>
            <a:xfrm>
              <a:off x="1523880" y="3733920"/>
              <a:ext cx="3886200" cy="1752480"/>
              <a:chOff x="1523880" y="3733920"/>
              <a:chExt cx="3886200" cy="1752480"/>
            </a:xfrm>
          </p:grpSpPr>
          <p:sp>
            <p:nvSpPr>
              <p:cNvPr id="328" name=""/>
              <p:cNvSpPr/>
              <p:nvPr/>
            </p:nvSpPr>
            <p:spPr>
              <a:xfrm>
                <a:off x="1523880" y="3733920"/>
                <a:ext cx="685800" cy="609480"/>
              </a:xfrm>
              <a:prstGeom prst="ellipse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1600200" y="4572000"/>
                <a:ext cx="533520" cy="914400"/>
                <a:chOff x="1600200" y="4572000"/>
                <a:chExt cx="533520" cy="9144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600200" y="4572000"/>
                  <a:ext cx="533520" cy="457200"/>
                </a:xfrm>
                <a:prstGeom prst="ellipse">
                  <a:avLst/>
                </a:prstGeom>
                <a:solidFill>
                  <a:srgbClr val="00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676520" y="5029200"/>
                  <a:ext cx="228600" cy="457200"/>
                </a:xfrm>
                <a:custGeom>
                  <a:avLst/>
                  <a:gdLst/>
                  <a:ahLst/>
                  <a:rect l="l" t="t" r="r" b="b"/>
                  <a:pathLst>
                    <a:path w="144" h="288">
                      <a:moveTo>
                        <a:pt x="144" y="0"/>
                      </a:moveTo>
                      <a:cubicBezTo>
                        <a:pt x="72" y="32"/>
                        <a:pt x="0" y="64"/>
                        <a:pt x="0" y="96"/>
                      </a:cubicBezTo>
                      <a:cubicBezTo>
                        <a:pt x="0" y="128"/>
                        <a:pt x="144" y="160"/>
                        <a:pt x="144" y="192"/>
                      </a:cubicBezTo>
                      <a:cubicBezTo>
                        <a:pt x="144" y="224"/>
                        <a:pt x="72" y="256"/>
                        <a:pt x="0" y="288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2286000" y="4038480"/>
                <a:ext cx="114300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2286000" y="4343400"/>
                <a:ext cx="114300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352680" y="4343400"/>
                <a:ext cx="838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267080" y="3886200"/>
                <a:ext cx="1143000" cy="914400"/>
              </a:xfrm>
              <a:prstGeom prst="ellipse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200400" y="4800600"/>
              <a:ext cx="3886200" cy="1752480"/>
              <a:chOff x="3200400" y="4800600"/>
              <a:chExt cx="3886200" cy="1752480"/>
            </a:xfrm>
          </p:grpSpPr>
          <p:sp>
            <p:nvSpPr>
              <p:cNvPr id="337" name=""/>
              <p:cNvSpPr/>
              <p:nvPr/>
            </p:nvSpPr>
            <p:spPr>
              <a:xfrm>
                <a:off x="3200400" y="4800600"/>
                <a:ext cx="685800" cy="609480"/>
              </a:xfrm>
              <a:prstGeom prst="ellipse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3276720" y="5638680"/>
                <a:ext cx="533520" cy="914400"/>
                <a:chOff x="3276720" y="5638680"/>
                <a:chExt cx="533520" cy="91440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276720" y="5638680"/>
                  <a:ext cx="533520" cy="457200"/>
                </a:xfrm>
                <a:prstGeom prst="ellipse">
                  <a:avLst/>
                </a:prstGeom>
                <a:solidFill>
                  <a:srgbClr val="00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353040" y="6095880"/>
                  <a:ext cx="228600" cy="457200"/>
                </a:xfrm>
                <a:custGeom>
                  <a:avLst/>
                  <a:gdLst/>
                  <a:ahLst/>
                  <a:rect l="l" t="t" r="r" b="b"/>
                  <a:pathLst>
                    <a:path w="144" h="288">
                      <a:moveTo>
                        <a:pt x="144" y="0"/>
                      </a:moveTo>
                      <a:cubicBezTo>
                        <a:pt x="72" y="32"/>
                        <a:pt x="0" y="64"/>
                        <a:pt x="0" y="96"/>
                      </a:cubicBezTo>
                      <a:cubicBezTo>
                        <a:pt x="0" y="128"/>
                        <a:pt x="144" y="160"/>
                        <a:pt x="144" y="192"/>
                      </a:cubicBezTo>
                      <a:cubicBezTo>
                        <a:pt x="144" y="224"/>
                        <a:pt x="72" y="256"/>
                        <a:pt x="0" y="288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3962520" y="5105160"/>
                <a:ext cx="114300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3962520" y="5410080"/>
                <a:ext cx="114300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029200" y="5410080"/>
                <a:ext cx="838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943600" y="4952880"/>
                <a:ext cx="1143000" cy="914400"/>
              </a:xfrm>
              <a:prstGeom prst="ellipse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3880" y="457200"/>
            <a:ext cx="716292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Diploid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ell with two sets of chromosom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447920" y="2209680"/>
            <a:ext cx="7162560" cy="1312920"/>
            <a:chOff x="1447920" y="2209680"/>
            <a:chExt cx="7162560" cy="1312920"/>
          </a:xfrm>
        </p:grpSpPr>
        <p:sp>
          <p:nvSpPr>
            <p:cNvPr id="165" name=""/>
            <p:cNvSpPr/>
            <p:nvPr/>
          </p:nvSpPr>
          <p:spPr>
            <a:xfrm>
              <a:off x="1447920" y="2209680"/>
              <a:ext cx="71625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.  all body cells except gamet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57400" y="2819160"/>
              <a:ext cx="556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(somatic cells)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447920" y="3809880"/>
            <a:ext cx="6095880" cy="1389240"/>
            <a:chOff x="1447920" y="3809880"/>
            <a:chExt cx="6095880" cy="1389240"/>
          </a:xfrm>
        </p:grpSpPr>
        <p:sp>
          <p:nvSpPr>
            <p:cNvPr id="168" name=""/>
            <p:cNvSpPr/>
            <p:nvPr/>
          </p:nvSpPr>
          <p:spPr>
            <a:xfrm>
              <a:off x="1447920" y="3809880"/>
              <a:ext cx="60958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2.  human somatic cells hav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33720" y="4495680"/>
              <a:ext cx="5029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46 chromosom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70" name=""/>
          <p:cNvGraphicFramePr/>
          <p:nvPr/>
        </p:nvGraphicFramePr>
        <p:xfrm>
          <a:off x="6095880" y="4952880"/>
          <a:ext cx="266724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4952880"/>
                    <a:ext cx="266724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ffff"/>
                </a:solidFill>
                <a:latin typeface="Times New Roman"/>
              </a:rPr>
              <a:t>Types of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ffff"/>
                </a:solidFill>
                <a:latin typeface="Times New Roman"/>
              </a:rPr>
              <a:t>Reproduction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228600"/>
            <a:ext cx="5715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tosis 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(aka the cell cycle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219320" y="1447920"/>
            <a:ext cx="6324480" cy="1341360"/>
            <a:chOff x="1219320" y="1447920"/>
            <a:chExt cx="6324480" cy="1341360"/>
          </a:xfrm>
        </p:grpSpPr>
        <p:sp>
          <p:nvSpPr>
            <p:cNvPr id="176" name=""/>
            <p:cNvSpPr/>
            <p:nvPr/>
          </p:nvSpPr>
          <p:spPr>
            <a:xfrm>
              <a:off x="1219320" y="1447920"/>
              <a:ext cx="617220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Times New Roman"/>
                </a:rPr>
                <a:t>1.  asexual (one parent); 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28800" y="2133360"/>
              <a:ext cx="571500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Times New Roman"/>
                </a:rPr>
                <a:t>somatic  cell splits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066680" y="3124080"/>
            <a:ext cx="7772400" cy="3004560"/>
            <a:chOff x="1066680" y="3124080"/>
            <a:chExt cx="7772400" cy="3004560"/>
          </a:xfrm>
        </p:grpSpPr>
        <p:sp>
          <p:nvSpPr>
            <p:cNvPr id="179" name=""/>
            <p:cNvSpPr/>
            <p:nvPr/>
          </p:nvSpPr>
          <p:spPr>
            <a:xfrm>
              <a:off x="1066680" y="3124080"/>
              <a:ext cx="777240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Times New Roman"/>
                </a:rPr>
                <a:t>2.  Formation of cells with the </a:t>
              </a:r>
              <a:r>
                <a:rPr b="0" lang="en-US" sz="41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exact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52480" y="5410080"/>
              <a:ext cx="53341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Times New Roman"/>
                </a:rPr>
                <a:t>growth &amp; repair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76520" y="4648320"/>
              <a:ext cx="64008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Times New Roman"/>
                </a:rPr>
                <a:t>somatic cells are involved in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76520" y="3809880"/>
              <a:ext cx="678168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same number of chromosomes</a:t>
              </a:r>
              <a:r>
                <a:rPr b="0" lang="en-US" sz="4100" spc="-1" strike="noStrike">
                  <a:solidFill>
                    <a:srgbClr val="ffffff"/>
                  </a:solidFill>
                  <a:latin typeface="Times New Roman"/>
                </a:rPr>
                <a:t>;</a:t>
              </a:r>
              <a:endParaRPr b="0" lang="en-US" sz="4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371600" y="3124080"/>
            <a:ext cx="6629400" cy="1465560"/>
            <a:chOff x="1371600" y="3124080"/>
            <a:chExt cx="6629400" cy="1465560"/>
          </a:xfrm>
        </p:grpSpPr>
        <p:sp>
          <p:nvSpPr>
            <p:cNvPr id="184" name=""/>
            <p:cNvSpPr/>
            <p:nvPr/>
          </p:nvSpPr>
          <p:spPr>
            <a:xfrm>
              <a:off x="1371600" y="3124080"/>
              <a:ext cx="632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4.  during mitosis, cells ar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57400" y="3886200"/>
              <a:ext cx="594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always diploid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295280" y="1066680"/>
            <a:ext cx="7391520" cy="1541880"/>
            <a:chOff x="1295280" y="1066680"/>
            <a:chExt cx="7391520" cy="1541880"/>
          </a:xfrm>
        </p:grpSpPr>
        <p:sp>
          <p:nvSpPr>
            <p:cNvPr id="187" name=""/>
            <p:cNvSpPr/>
            <p:nvPr/>
          </p:nvSpPr>
          <p:spPr>
            <a:xfrm>
              <a:off x="1295280" y="106668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2500"/>
                </a:spcBef>
                <a:buClr>
                  <a:srgbClr val="ffffff"/>
                </a:buClr>
                <a:buFont typeface="Times New Roman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during every mitosis cycle, two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28800" y="1905120"/>
              <a:ext cx="617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cells are made from on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itosis Anim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379600" y="2098800"/>
            <a:ext cx="4970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ff"/>
                </a:solidFill>
                <a:latin typeface="Times New Roman"/>
              </a:rPr>
              <a:t>Mitosis Review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79600" y="1790640"/>
            <a:ext cx="71280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1.  Is the beginning parent cell diploid or haploid (2n or n)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600200" y="5094360"/>
            <a:ext cx="6172200" cy="1560600"/>
            <a:chOff x="1600200" y="5094360"/>
            <a:chExt cx="6172200" cy="1560600"/>
          </a:xfrm>
        </p:grpSpPr>
        <p:graphicFrame>
          <p:nvGraphicFramePr>
            <p:cNvPr id="194" name=""/>
            <p:cNvGraphicFramePr/>
            <p:nvPr/>
          </p:nvGraphicFramePr>
          <p:xfrm>
            <a:off x="5334120" y="5105520"/>
            <a:ext cx="2438280" cy="1333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5105520"/>
                      <a:ext cx="2438280" cy="13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"/>
            <p:cNvGraphicFramePr/>
            <p:nvPr/>
          </p:nvGraphicFramePr>
          <p:xfrm>
            <a:off x="1600200" y="5094360"/>
            <a:ext cx="2514600" cy="156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00200" y="5094360"/>
                      <a:ext cx="2514600" cy="15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8" name=""/>
          <p:cNvGrpSpPr/>
          <p:nvPr/>
        </p:nvGrpSpPr>
        <p:grpSpPr>
          <a:xfrm>
            <a:off x="1523880" y="3505320"/>
            <a:ext cx="7010640" cy="1389240"/>
            <a:chOff x="1523880" y="3505320"/>
            <a:chExt cx="7010640" cy="1389240"/>
          </a:xfrm>
        </p:grpSpPr>
        <p:sp>
          <p:nvSpPr>
            <p:cNvPr id="199" name=""/>
            <p:cNvSpPr/>
            <p:nvPr/>
          </p:nvSpPr>
          <p:spPr>
            <a:xfrm>
              <a:off x="1523880" y="3505320"/>
              <a:ext cx="7010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2.  How many chromosomes ar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09680" y="4191120"/>
              <a:ext cx="586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in a human parent cell?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ff"/>
                </a:solidFill>
                <a:latin typeface="Times New Roman"/>
              </a:rPr>
              <a:t>More Mitosis Review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9240" y="1790640"/>
            <a:ext cx="751212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.  Are the resulting daughter cells diploid or haploid (2n or n)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676520" y="4876920"/>
            <a:ext cx="6858000" cy="1795320"/>
            <a:chOff x="1676520" y="4876920"/>
            <a:chExt cx="6858000" cy="1795320"/>
          </a:xfrm>
        </p:grpSpPr>
        <p:graphicFrame>
          <p:nvGraphicFramePr>
            <p:cNvPr id="204" name=""/>
            <p:cNvGraphicFramePr/>
            <p:nvPr/>
          </p:nvGraphicFramePr>
          <p:xfrm>
            <a:off x="5791320" y="5105520"/>
            <a:ext cx="2743200" cy="150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91320" y="5105520"/>
                      <a:ext cx="2743200" cy="15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6" name=""/>
            <p:cNvGraphicFramePr/>
            <p:nvPr/>
          </p:nvGraphicFramePr>
          <p:xfrm>
            <a:off x="1676520" y="4876920"/>
            <a:ext cx="2895480" cy="1795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876920"/>
                      <a:ext cx="2895480" cy="17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8" name=""/>
          <p:cNvGrpSpPr/>
          <p:nvPr/>
        </p:nvGrpSpPr>
        <p:grpSpPr>
          <a:xfrm>
            <a:off x="1447920" y="3352680"/>
            <a:ext cx="7010280" cy="1389240"/>
            <a:chOff x="1447920" y="3352680"/>
            <a:chExt cx="7010280" cy="1389240"/>
          </a:xfrm>
        </p:grpSpPr>
        <p:sp>
          <p:nvSpPr>
            <p:cNvPr id="209" name=""/>
            <p:cNvSpPr/>
            <p:nvPr/>
          </p:nvSpPr>
          <p:spPr>
            <a:xfrm>
              <a:off x="1447920" y="3352680"/>
              <a:ext cx="70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4.  How many chromosomes ar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33720" y="4038480"/>
              <a:ext cx="594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in a human daughter cell?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8:17:42Z</dcterms:created>
  <dc:creator>Plano ISD</dc:creator>
  <dc:description/>
  <dc:language>en-US</dc:language>
  <cp:lastModifiedBy>Plano ISD</cp:lastModifiedBy>
  <dcterms:modified xsi:type="dcterms:W3CDTF">2004-11-16T16:12:12Z</dcterms:modified>
  <cp:revision>35</cp:revision>
  <dc:subject/>
  <dc:title>Chapter 6 </dc:title>
</cp:coreProperties>
</file>